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147-A191-4498-9C10-B933CA98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972-ACD9-4F06-9F64-4F33A0CC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1B9-C88A-47AD-8E92-7CCC354D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367-9F45-4FF7-B0DB-CECDAF4D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1DD-6FAD-423E-9580-6A6EC8DE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273-A9D7-418C-BB51-C1E318E6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141-F8AF-4EC6-84E6-E2A19B04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B0A-982B-46A4-8873-2352B351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E29-D628-4B4E-9539-8B947ED6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191-1B8B-4029-B9CD-4EDE04A0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F21-FD57-4173-ACAB-1B0F5B1E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7D9-8A4E-4935-933B-C8FF3C1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5FB5-6E77-4B21-8295-E8388F821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Feature Article</a:t>
            </a:r>
            <a:br>
              <a:rPr sz="4400"/>
            </a:br>
            <a:r>
              <a:rPr b="0" lang="en-US" sz="4400" spc="-1" strike="noStrike">
                <a:solidFill>
                  <a:srgbClr val="b808f3"/>
                </a:solidFill>
                <a:latin typeface="Palatino"/>
              </a:rPr>
              <a:t>Physic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720" y="5915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Readers look for and recognize the physical features of feature artic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What you have in front of you is a feature artic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65760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8f3"/>
                </a:solidFill>
                <a:latin typeface="Palatino"/>
              </a:rPr>
              <a:t>Make a list of how this is different from other things you have re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8f3"/>
                </a:solidFill>
                <a:latin typeface="Palatino"/>
              </a:rPr>
              <a:t>What do you notice about the feature article we are rea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74cb"/>
                </a:solidFill>
                <a:latin typeface="Palatino"/>
              </a:rPr>
              <a:t>Here are some feature article characteristics.  Are any of them used in your feature artic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3733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titles and section h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fact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an excited or chatty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2362320"/>
            <a:ext cx="2666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tim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paragraphs in ch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808f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8f3"/>
                </a:solidFill>
                <a:latin typeface="Palatino"/>
              </a:rPr>
              <a:t>qu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5:02:25Z</dcterms:created>
  <dc:creator>AAPS</dc:creator>
  <dc:description/>
  <dc:language>en-US</dc:language>
  <cp:lastModifiedBy>AAPS</cp:lastModifiedBy>
  <cp:lastPrinted>2005-10-17T17:03:21Z</cp:lastPrinted>
  <dcterms:modified xsi:type="dcterms:W3CDTF">2005-10-20T00:09:21Z</dcterms:modified>
  <cp:revision>10</cp:revision>
  <dc:subject/>
  <dc:title>FEATURE ARTICLE CHARACTERISTICS</dc:title>
</cp:coreProperties>
</file>